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30E8-33A3-4617-9542-E65F24B64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F2EE-F1D5-4FEA-B985-2B800412B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94E9-3538-4303-9C14-B7D0E0B91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6D25-3D50-4C9E-8270-855B2FCC2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gracebioblog.blogspot.ca/2010/05/artificial-selection-good-or-bad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6919-DE22-4543-8F3D-1404B728F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volution.berkeley.edu/evolibrary/article/evo_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1FDA-0A24-421D-8D28-4FCB18ABE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lackwellpublishing.com/ridley/tutorials/quantitative_genetics23.a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48C4-A351-43C8-95DF-DE8A17B61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EBAD-3A40-48FD-BAD8-5A6F0EAC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2EF8-E9D0-469D-9DA7-7E36D6284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4D4D-273F-4790-9C51-7EBE955F1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1DC0-A401-4CC2-8725-375699F4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69B3-8E41-4142-9C85-99BFB2D8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2B61-8905-47C1-B406-555DB492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5E7F-654E-4C51-A66F-4C4B9CE2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D8B4-7532-462C-B078-4F1017F3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FCC0-067A-4F83-9FE8-E22DF2D8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907F-9419-450D-9AE5-20B07F95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21CA-4C64-479D-A9B7-2EAB28AA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5E55-6507-4C94-854E-837747F80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Change Over Tim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xual reproduction ensures that there is genetic variation in the offspring &amp; the pop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ations cause additional genetic vari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of Mu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tral mu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no selective advan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rmful mu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reduce reproductive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nefic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ncrease reproductive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ificial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breeding (of animals, plants, etc.) for particular desirable tra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bidogtree"/>
          <p:cNvPicPr/>
          <p:nvPr/>
        </p:nvPicPr>
        <p:blipFill>
          <a:blip r:embed="rId1"/>
          <a:stretch/>
        </p:blipFill>
        <p:spPr>
          <a:xfrm>
            <a:off x="4495680" y="2066760"/>
            <a:ext cx="434340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mustardselection"/>
          <p:cNvPicPr/>
          <p:nvPr/>
        </p:nvPicPr>
        <p:blipFill>
          <a:blip r:embed="rId1"/>
          <a:stretch/>
        </p:blipFill>
        <p:spPr>
          <a:xfrm>
            <a:off x="685800" y="858960"/>
            <a:ext cx="777240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selection_corn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eders must work with the existing genetic diversity, or they can use genetic engineering techn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3T13:12:05Z</dcterms:created>
  <dc:creator>rubina khan</dc:creator>
  <dc:description/>
  <dc:language>en-US</dc:language>
  <cp:lastModifiedBy>rubina khan</cp:lastModifiedBy>
  <dcterms:modified xsi:type="dcterms:W3CDTF">2016-05-27T14:22:39Z</dcterms:modified>
  <cp:revision>39</cp:revision>
  <dc:subject/>
  <dc:title>PowerPoint Presentation</dc:title>
</cp:coreProperties>
</file>